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8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377-8D95-4233-92E4-26302372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683-725D-4726-B8E1-D02FFDF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4F4-B105-4B68-B623-8DE7DB8A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667-19DA-40BD-9A7C-CACE25F4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3CB3-1C4B-4A9D-9344-F4D402A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604-BD64-48FF-905D-B18DEE3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6A89-FF86-422D-9A3C-5B038E3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72DC-BDE7-4C36-AC3D-682B30DF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CDC-283E-4042-B547-3840A38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9F7E-CC9B-4EA4-A46F-4329E08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7A6C-C25A-4BD5-A35A-517B655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6BD-D13A-45CB-B9CF-A097C0E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138E-ADCC-4351-896B-808E38C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BC2-BAE7-40D8-A728-367ABBD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980F-7B10-43EE-962F-7C23B73F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DAF2-77A1-4432-8FF7-4F5DA7E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BB0-2B35-4CDB-8D87-119467F0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11F-B4F8-46A3-952B-40987F2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DEE-C4C5-4A4B-9420-D9B306ED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054-11F4-44E4-8F24-F6A615A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F24-54DC-4AC8-8550-4696CBB9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F2E-81F3-476D-BFA0-1888132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DFD-982E-47A7-AB51-2AF50D8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3E4-5192-4A19-AFE0-9F8EA0B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5D1A-B88E-402B-8913-0A9C83A1D8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C3C-B611-4689-A1EA-52B5D8DE1B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hyperlink" Target="http://www.musicmotion.com/product.htm?pid=405060" TargetMode="External"/><Relationship Id="rId5" Type="http://schemas.openxmlformats.org/officeDocument/2006/relationships/hyperlink" Target="http://www.musicmotion.com/product.htm?pid=405060" TargetMode="External"/><Relationship Id="rId6" Type="http://schemas.openxmlformats.org/officeDocument/2006/relationships/hyperlink" Target="http://www.musicmotion.com/product.htm?pid=405060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english.people.com.cn/200506/21/eng20050621_191504.html" TargetMode="External"/><Relationship Id="rId5" Type="http://schemas.openxmlformats.org/officeDocument/2006/relationships/hyperlink" Target="http://english.people.com.cn/200506/21/eng20050621_191504.html" TargetMode="External"/><Relationship Id="rId6" Type="http://schemas.openxmlformats.org/officeDocument/2006/relationships/hyperlink" Target="http://english.people.com.cn/200506/21/eng20050621_191504.html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janadkins.com/treasure.html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Zheng He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and his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Treasure Shi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Judy M. Dove, Theatre Arts Educato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Martin G.T. Magnet Middle Schoo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1701 Ridge Roa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Raleigh, NC   276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rebuchet MS"/>
              </a:rPr>
              <a:t>jdove@wcpss.n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ehind the screen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ght bulb (60 watt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ging from yardstic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uminum pie pan as reflector and shie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809880" y="1219320"/>
            <a:ext cx="38102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 better look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3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Percussion instruments for sound effects.</a:t>
            </a:r>
            <a:br>
              <a:rPr sz="32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strument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http://www.musicmotion.com/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33720" y="235908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" y="5791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inese wind gong: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www.musicmotion.com/product.htm?pid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=40506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try:  starter lin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fourteen hundred and  ninety two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lumbus sailed the ocean blu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t a hundred years earlier, ‘though none seem to know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a fleet commanded by Admiral Zheng He. (pronounced “Chun Ho”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tween 1405 and ’2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fleet of ships landed, but not to wa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-554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45720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ive students key historical moments and vocabulary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et students work in pai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ssign specific vocabulary and facts to each group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ach pair must come up with lines to add to the poem that continue the retelling of this historical mo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ut all lines together, in order of events, for one longer collaborative “epic” po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must memorize the po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y will then create shadow puppets, including silhouettes that show the contrast between Columbus’ ships and Zheng He’s ship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will tell the story as they present a shadow puppet show, and teach other students from visiting classes through their presenta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hadow puppets, modeled after the wayang kulit of Indonesia.   Puppets are made of poster board or cereal/gift boxes, with silhouettes cut out and taped to wooden skewers with pointed ends cut off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1261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riting and storytelling are integrated with the social studies lesson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598760"/>
            <a:ext cx="6430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etails and examples – important writing skills – are encouraged through artistic creation and  physical manipulation of inanimate object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98760"/>
            <a:ext cx="6172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0958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tudents develop a greater understanding of a logical sequence of events as well as basic plot structure through storytelling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98760"/>
            <a:ext cx="6095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71800" y="762120"/>
            <a:ext cx="141912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43400" y="838080"/>
            <a:ext cx="1419120" cy="182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638680" y="83808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066680" y="2514600"/>
            <a:ext cx="198144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048120" y="2514600"/>
            <a:ext cx="1419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419720" y="25909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715000" y="2514600"/>
            <a:ext cx="274320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1905120" y="3276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30481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5791320" y="3276720"/>
            <a:ext cx="1419120" cy="761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2362320" y="4038480"/>
            <a:ext cx="161928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3581280" y="4267080"/>
            <a:ext cx="3962520" cy="2084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48006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Photo:&lt;!--###IMAGE_BRIEF###--&gt;"/>
          <p:cNvPicPr/>
          <p:nvPr/>
        </p:nvPicPr>
        <p:blipFill>
          <a:blip r:embed="rId15"/>
          <a:stretch/>
        </p:blipFill>
        <p:spPr>
          <a:xfrm>
            <a:off x="0" y="4648320"/>
            <a:ext cx="3505320" cy="196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essment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cabulary quizz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ort answer ques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edaeia discussion group – particip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riting lines of poetry with all required elements in th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reating a short play incorporating required elements such as specific historical fact, vocabulary, names with correct pronunciation, literary elements such as basic plot structur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rticipation in building puppets and presenting the “show and share” event to other stud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One of Christopher Columbus’ ships next to one of Zheng He’s treasure ships, in scale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41912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3124440" cy="16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04920" y="4343400"/>
          <a:ext cx="7386480" cy="22748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jective:  to familiarize students with Admiral Zheng he and his Treasure Ship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urpose: so that students will have a more realistic view of world history and foreign accomplishment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r grade 7, but adaptable for any.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esson duration: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 weeks, flexi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atura MT Script Capitals"/>
              </a:rPr>
              <a:t>Sources us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ourc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De Mente, Boye’ Lafayette.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The Chinese have a Word for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It.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pp. 148-150, 468-470. 199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Insight guides: China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.  APA Publications. pp. 24, 93, 94,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98, 99.  2006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odel of Zheng He's treasure ship built in E.China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ity”.&lt;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english.people.com.cn/200506/21/eng2 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	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0050621_191504.html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&gt; . 11 Jan. 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Primary Source, Inc.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China.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Pp. 269-285.  200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Zheng he Treasure Ship”.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&lt;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http://www.janadkins.com/treasure.html 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&gt;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. 10 Jan.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ecific point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Insight Guides: Ch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24 – Ming Dynas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3 – poetry plays an important part in Chinese literature.  Students and civil servants of any branch were expected to be able to write a poem for any occasi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4 – poetry written on strips of bamboo, roll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8 – plots are based on history or folklo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8 – puppet shows and shadow play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. 99 – symbolism in the ar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tudents will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derstand the pre-Ming naval accomplishments of the Chine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ppreciate the scope and significance of Zheng He’s voyag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derstand the theory behind the tribute syste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ompare and contrast European and Chinese maritime technolog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Learn about some of the people, places, and products that figured in the voyages of the Ming treasure flee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sk why these spectacular voyages are not well-known in the West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China,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Lesson 20, “China and the South Seas”, p. 271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4772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CIAL STUDIES :: SEVENTH GRADE  ASIA</a:t>
            </a:r>
            <a:br>
              <a:rPr sz="1600"/>
            </a:b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ANGUAGE ARTS ::  SEVENTH GRADE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RTS EDUCATION :: THEATRE ARTS 6-8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82844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8The learner will assess the influence and contributions of individuals and cultural groups in Africa, Asia, and Australi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1The learner will use language to express individual perspectives in response to personal, social, cultural, and historical issu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2: The learner will act by interacting in improvisations and assuming role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3: The learner will design and produce theatre by conceptualizing and realizing artistic interpretations for informal or formal production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4: The learner will direct through planning and presenting informal or formal productions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MPETENCY GOAL 5: The learner will research by finding information to support informal or formal productions. (National Standard 5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y Question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had the Chinese accomplished in terms of maritime technology and travel before the voyages of Zheng H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ere did Zheng He and his treasure ships g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was the Chinese attitude toward the people and countries they encountered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y were the Chinese officials opposed to the treasure ships and future voyag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did the Chinese state gain from the maritime expeditio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if the Chinese had made it all the way to Europe?  How might history have been different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Enduring Legacy of Ancient China,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Lesson 20, “China and the South Seas”, p. 271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hadow puppet screen</a:t>
            </a:r>
            <a:br>
              <a:rPr sz="28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de of tri-fold display board and shower curtain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0:41:25Z</dcterms:created>
  <dc:creator>Wake County Public Schools</dc:creator>
  <dc:description/>
  <dc:language>en-US</dc:language>
  <cp:lastModifiedBy>Jane Shlensky</cp:lastModifiedBy>
  <dcterms:modified xsi:type="dcterms:W3CDTF">2008-04-11T04:41:38Z</dcterms:modified>
  <cp:revision>58</cp:revision>
  <dc:subject/>
  <dc:title>Zheng He and his  Treasure Ships</dc:title>
</cp:coreProperties>
</file>